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wrong1.wav" ContentType="audio/x-wav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5C7B-5371-4F97-814C-65AB11B55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A5E3-3018-4F84-BA9C-3E748BCD8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C085-59DE-4B3A-9604-18E70B75D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E282-7847-4C58-9DB1-8CC5640A1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1801-0B61-4801-9952-F267F2A4B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60DF-7661-4126-A75B-CE23F0D2D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0729-94CC-4B21-A0DA-F59E662F2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F4BB-BDFF-4FD0-B7D9-E59350784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82D2-B6BA-4B8F-85D6-80A747F4E8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3C50-06AF-4D49-8882-077BA0822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3ED3-2B1C-47D4-A29B-4AE422A7B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F70E-F787-47D1-8E10-3BF40D3AB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8D37-A995-46CA-8136-C377B6AF5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1CEB-8295-444D-B4C9-8D38A2DEC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D6AC-0188-4BAB-B856-1B801AED1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D479-19ED-4E97-AF7E-9E1D4AA47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2CD9-E62A-4611-AC55-D9B92DE82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F129-6E1B-4392-AEB8-4FBCD99D7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59B3-1C00-4420-8B23-FB9D5111A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2845-CB84-42E2-B4F6-C2F4E65DE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24E4-1663-4351-A549-DA85586E5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F3F7-9636-47D5-A070-02B9B7621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6B8B-3A21-4A1F-89AC-19C198F00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73DD-DAB6-4DD2-AFE9-E447FAF0E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41C1-D7BB-4D9B-ACCB-A94842FFA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03E0-74F4-4B8C-992E-DB5E0B8AB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57E3-ED83-44DB-8E8E-5C82D3A87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8925-8A6D-4D4C-82D5-D8BE2ADEE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4F08-B8E9-4A78-9C86-DA8AF286D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16F3-9AE6-43CF-8CAF-2ED2282B4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B779-78A0-4D1A-A5E4-D0D26EB64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5C84-3F9C-4A44-B963-B3275790C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4E52-7E24-497D-9726-518474EAC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1129-7310-4CE6-AEF6-B14904975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1122-5149-4F02-9BB5-E50024303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A79B-E987-4C8E-BC54-2357F9773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FC5E-E8E8-43CD-BA5C-7EBFB79F0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EF96-CD3E-4066-B162-C3003E619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71D3-47EC-468C-81B2-6E36C7F0D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1467-74FD-4163-8E16-3B7DB3000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40FA-FBFF-4114-B99D-02D87A40A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AD7E-D064-4AD8-8F67-8F18EA827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72A2-2BB2-49D4-A352-9FB7FC225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EC3A-F350-40CA-8F44-8FF1DFF05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0D81-CB27-4114-B59C-40755DD95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10DD-F76E-445C-991C-71D1192F3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832A-9420-44BB-8411-251CF2AA4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22EB-F1C1-496A-BF4E-63A6C9C52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B010-4B1E-4E0F-88A3-801895975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24E3-68D0-449E-83B9-61AE2883A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C005-FBC0-405A-9290-60A969EC3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0637-6BFD-479C-A2E0-2BA33FF81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FCD6-59DD-4CF9-95AA-94D3B77DD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AB27-A8AB-41B3-B215-180E3EE97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B44E-3A42-4A12-9D50-353CA9C9B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9F30-2DE4-48BF-AA39-7A4CCBED9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E7CA-F7F1-4C1A-8007-A89E164D0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E3E5-F58A-4306-AD6B-9B83669CB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0560-5FAE-44FA-A41C-6C038662A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7C17-5C23-4A52-96EB-ED1156756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3A2-038F-4469-AB34-D6B7EA543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32AC-C393-4C5C-AEAD-0FC8D2BD8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F063-AEDF-4A49-ABB1-E1CC1FECB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6C4F-3628-4968-850A-8AAC86348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6C4E-01B1-4E27-8861-D64FB1ACD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C3A4-12B7-4C4B-86EF-9290A4EC5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8732-E83A-4FF8-AC20-57AD30782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0D5B-24AF-41FD-8C2D-FF95F5B82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B6E1-BAD5-4AA1-A1D0-CBC904463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7FD-812F-4A6D-9784-C495F40F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AFD-48EE-45B4-BD2D-9E6759C0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907-208E-4227-90C7-961EAFC3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D79-BFB2-4443-8419-D145F3E7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730-4BD0-40F6-82AC-5B5E3C57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E83-E16A-41EE-BABC-23F18033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D1E-EFBF-4EB8-9693-70147EC4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EC2-5723-487C-A577-DA94976D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476-7954-4FE1-8E11-AF089529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D52-74F6-4187-8A08-74179748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E50-5312-4EFD-AB80-6BF118B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416-D6E4-40A5-BD2B-4F03FB5B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7E6B-66AC-4C33-B4AC-619DDC144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hyperlink" Target="http://www.socialimpactgames.com/" TargetMode="External"/><Relationship Id="rId10" Type="http://schemas.openxmlformats.org/officeDocument/2006/relationships/hyperlink" Target="http://www.gamesparentsteachers.com/" TargetMode="External"/><Relationship Id="rId11" Type="http://schemas.openxmlformats.org/officeDocument/2006/relationships/hyperlink" Target="http://www.marcprensky.com/writing/default.asp" TargetMode="External"/><Relationship Id="rId12" Type="http://schemas.openxmlformats.org/officeDocument/2006/relationships/hyperlink" Target="mailto:marc@games2train.com" TargetMode="External"/><Relationship Id="rId13" Type="http://schemas.openxmlformats.org/officeDocument/2006/relationships/hyperlink" Target="http://www.socialimpactgames.com/" TargetMode="External"/><Relationship Id="rId14" Type="http://schemas.openxmlformats.org/officeDocument/2006/relationships/hyperlink" Target="http://www.gamesparentsteachers.com/" TargetMode="External"/><Relationship Id="rId15" Type="http://schemas.openxmlformats.org/officeDocument/2006/relationships/hyperlink" Target="http://www.marcprensky.com/writing/default.asp" TargetMode="External"/><Relationship Id="rId16" Type="http://schemas.openxmlformats.org/officeDocument/2006/relationships/hyperlink" Target="mailto:marc@games2train.com" TargetMode="External"/><Relationship Id="rId17" Type="http://schemas.openxmlformats.org/officeDocument/2006/relationships/hyperlink" Target="http://www.socialimpactgames.com/" TargetMode="External"/><Relationship Id="rId18" Type="http://schemas.openxmlformats.org/officeDocument/2006/relationships/hyperlink" Target="http://www.gamesparentsteachers.com/" TargetMode="External"/><Relationship Id="rId19" Type="http://schemas.openxmlformats.org/officeDocument/2006/relationships/hyperlink" Target="http://www.marcprensky.com/writing/default.asp" TargetMode="External"/><Relationship Id="rId20" Type="http://schemas.openxmlformats.org/officeDocument/2006/relationships/hyperlink" Target="mailto:marc@games2train.com" TargetMode="External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ocialimpactgames.com/" TargetMode="External"/><Relationship Id="rId2" Type="http://schemas.openxmlformats.org/officeDocument/2006/relationships/hyperlink" Target="http://www.gamesparentsteachers.com/" TargetMode="External"/><Relationship Id="rId3" Type="http://schemas.openxmlformats.org/officeDocument/2006/relationships/hyperlink" Target="http://www.marcprensky.com/writing/default.asp" TargetMode="External"/><Relationship Id="rId4" Type="http://schemas.openxmlformats.org/officeDocument/2006/relationships/hyperlink" Target="mailto:marc@games2train.com" TargetMode="External"/><Relationship Id="rId5" Type="http://schemas.openxmlformats.org/officeDocument/2006/relationships/hyperlink" Target="http://www.socialimpactgames.com/" TargetMode="External"/><Relationship Id="rId6" Type="http://schemas.openxmlformats.org/officeDocument/2006/relationships/hyperlink" Target="http://www.gamesparentsteachers.com/" TargetMode="External"/><Relationship Id="rId7" Type="http://schemas.openxmlformats.org/officeDocument/2006/relationships/hyperlink" Target="http://www.marcprensky.com/writing/default.asp" TargetMode="External"/><Relationship Id="rId8" Type="http://schemas.openxmlformats.org/officeDocument/2006/relationships/hyperlink" Target="mailto:marc@games2train.com" TargetMode="External"/><Relationship Id="rId9" Type="http://schemas.openxmlformats.org/officeDocument/2006/relationships/image" Target="../media/image9.jpeg"/><Relationship Id="rId10" Type="http://schemas.openxmlformats.org/officeDocument/2006/relationships/audio" Target="../media/wrong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196440" y="475452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Marc Pren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31200" y="554688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marc@games2trai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Black"/>
              </a:rPr>
              <a:t>www.marcprensk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813760" y="380880"/>
            <a:ext cx="3527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Dust or Magic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HE SPEED OF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vember 5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mbertville N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+++++MP-head-hi res500x500"/>
          <p:cNvPicPr/>
          <p:nvPr/>
        </p:nvPicPr>
        <p:blipFill>
          <a:blip r:embed="rId1"/>
          <a:stretch/>
        </p:blipFill>
        <p:spPr>
          <a:xfrm>
            <a:off x="3295800" y="2127240"/>
            <a:ext cx="24955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752480" y="1924200"/>
            <a:ext cx="56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How many of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have sent an e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in the past 24 h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1066680" y="914400"/>
            <a:ext cx="7086600" cy="4800600"/>
          </a:xfrm>
          <a:prstGeom prst="wedgeRoundRectCallout">
            <a:avLst>
              <a:gd name="adj1" fmla="val -47402"/>
              <a:gd name="adj2" fmla="val 6150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Arial Black"/>
              </a:rPr>
              <a:t>“</a:t>
            </a:r>
            <a:r>
              <a:rPr b="0" lang="en-US" sz="6000" spc="-1" strike="noStrike">
                <a:solidFill>
                  <a:srgbClr val="3366ff"/>
                </a:solidFill>
                <a:latin typeface="Arial Black"/>
              </a:rPr>
              <a:t>Email is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 Black"/>
              </a:rPr>
              <a:t>old people</a:t>
            </a:r>
            <a:r>
              <a:rPr b="0" lang="en-US" sz="6000" spc="-1" strike="noStrike">
                <a:solidFill>
                  <a:srgbClr val="3366ff"/>
                </a:solidFill>
                <a:latin typeface="Arial Black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f7f"/>
                </a:solidFill>
                <a:latin typeface="Arial Black"/>
              </a:rPr>
              <a:t>          – </a:t>
            </a:r>
            <a:r>
              <a:rPr b="0" i="1" lang="en-US" sz="1800" spc="-1" strike="noStrike">
                <a:solidFill>
                  <a:srgbClr val="7f7f7f"/>
                </a:solidFill>
                <a:latin typeface="Arial Black"/>
              </a:rPr>
              <a:t>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310120" y="4583160"/>
            <a:ext cx="51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f7f"/>
                </a:solidFill>
                <a:latin typeface="Arial Black"/>
              </a:rPr>
              <a:t>– </a:t>
            </a:r>
            <a:r>
              <a:rPr b="0" i="1" lang="en-US" sz="1800" spc="-1" strike="noStrike">
                <a:solidFill>
                  <a:srgbClr val="7f7f7f"/>
                </a:solidFill>
                <a:latin typeface="Arial Black"/>
              </a:rPr>
              <a:t>A headline in The Chronicle of Highe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828720" y="1636560"/>
            <a:ext cx="7500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If technology conti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To double in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every year, how much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powerful  will it be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30 yea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197720" y="2438280"/>
            <a:ext cx="693072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7200" spc="-1" strike="noStrike" baseline="30000">
                <a:solidFill>
                  <a:srgbClr val="ffffff"/>
                </a:solidFill>
                <a:latin typeface="Arial Black"/>
              </a:rPr>
              <a:t>30</a:t>
            </a: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=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pprox. </a:t>
            </a: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1 bill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708200" y="2438280"/>
            <a:ext cx="5626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d we are al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t the atomic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102440" y="7726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933480" y="144792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H="1">
            <a:off x="933120" y="5943600"/>
            <a:ext cx="782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 rot="16200000">
            <a:off x="-322200" y="243396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21840" y="6172200"/>
            <a:ext cx="12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114280" y="6095880"/>
            <a:ext cx="45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      10   15   20    25   30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1560" y="1828800"/>
            <a:ext cx="26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Technology 1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times more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798600" y="457200"/>
            <a:ext cx="232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Machines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powerful tha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human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359880" y="2949480"/>
            <a:ext cx="303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Implanted / wea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Real-tim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857600" y="4038480"/>
            <a:ext cx="328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Handheld computer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Power of today’s super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03040" y="5006880"/>
            <a:ext cx="182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Mobil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wal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4495680" y="1600200"/>
            <a:ext cx="3733920" cy="1219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5791320" y="380880"/>
            <a:ext cx="3733560" cy="1219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Box 16"/>
          <p:cNvGrpSpPr/>
          <p:nvPr/>
        </p:nvGrpSpPr>
        <p:grpSpPr>
          <a:xfrm>
            <a:off x="1463760" y="195120"/>
            <a:ext cx="4035240" cy="779760"/>
            <a:chOff x="1463760" y="195120"/>
            <a:chExt cx="4035240" cy="779760"/>
          </a:xfrm>
        </p:grpSpPr>
        <p:pic>
          <p:nvPicPr>
            <p:cNvPr id="107" name="TextBox 16" descr=""/>
            <p:cNvPicPr/>
            <p:nvPr/>
          </p:nvPicPr>
          <p:blipFill>
            <a:blip r:embed="rId1"/>
            <a:stretch/>
          </p:blipFill>
          <p:spPr>
            <a:xfrm>
              <a:off x="1463760" y="195120"/>
              <a:ext cx="403524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927080" y="304920"/>
              <a:ext cx="314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cc"/>
                  </a:solidFill>
                  <a:latin typeface="Arial Black"/>
                </a:rPr>
                <a:t>Our Kids’ Worl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1066680" y="609480"/>
            <a:ext cx="7010640" cy="4648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Arial Black"/>
              </a:rPr>
              <a:t>“</a:t>
            </a:r>
            <a:r>
              <a:rPr b="0" lang="en-US" sz="7200" spc="-1" strike="noStrike">
                <a:solidFill>
                  <a:srgbClr val="ff33cc"/>
                </a:solidFill>
                <a:latin typeface="Arial Black"/>
              </a:rPr>
              <a:t>My passion is my future.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                                          – </a:t>
            </a: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a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996840" y="692280"/>
            <a:ext cx="7378920" cy="4878360"/>
          </a:xfrm>
          <a:prstGeom prst="wedgeRoundRectCallout">
            <a:avLst>
              <a:gd name="adj1" fmla="val -41680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203480" y="1914480"/>
            <a:ext cx="679752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Most of us prefer to walk backward into the futu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996840" y="692280"/>
            <a:ext cx="7378920" cy="4878360"/>
          </a:xfrm>
          <a:prstGeom prst="wedgeRoundRectCallout">
            <a:avLst>
              <a:gd name="adj1" fmla="val -41680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203480" y="1981080"/>
            <a:ext cx="67975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…</a:t>
            </a: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a posture which may be uncomfortab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996840" y="692280"/>
            <a:ext cx="7378920" cy="4878360"/>
          </a:xfrm>
          <a:prstGeom prst="wedgeRoundRectCallout">
            <a:avLst>
              <a:gd name="adj1" fmla="val -41680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203480" y="1066680"/>
            <a:ext cx="6797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…</a:t>
            </a: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but which at least allows us </a:t>
            </a: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to keep on looking at familiar things as long as we can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-- Charles Handy</a:t>
            </a:r>
            <a:r>
              <a:rPr b="0" i="1" lang="en-US" sz="2000" spc="-1" strike="noStrike">
                <a:solidFill>
                  <a:srgbClr val="7f7f7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305480" y="65818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649160" y="487440"/>
            <a:ext cx="588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cc"/>
                </a:solidFill>
                <a:latin typeface="Arial Black"/>
              </a:rPr>
              <a:t>My Education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752480" y="2000160"/>
            <a:ext cx="701064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aster of Arts in Teaching (Y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aught High School Math (5 y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Ran a Street Acad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aught Elementary School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Taught College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Still Tutor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Have interviewed close to 1000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31808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© 2003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truck"/>
          <p:cNvPicPr/>
          <p:nvPr/>
        </p:nvPicPr>
        <p:blipFill>
          <a:blip r:embed="rId1"/>
          <a:stretch/>
        </p:blipFill>
        <p:spPr>
          <a:xfrm>
            <a:off x="457200" y="-1295280"/>
            <a:ext cx="8042400" cy="86104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 rot="19879200">
            <a:off x="4075200" y="303804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 rot="19540800">
            <a:off x="3773520" y="3325680"/>
            <a:ext cx="1803240" cy="25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 rot="19614000">
            <a:off x="3797280" y="2779560"/>
            <a:ext cx="24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CENTURY EDU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Horn.wav" descr=""/>
          <p:cNvPicPr/>
          <p:nvPr/>
        </p:nvPicPr>
        <p:blipFill>
          <a:blip r:embed="rId2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83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7102440" y="7726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933480" y="144792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 flipH="1">
            <a:off x="933120" y="5943600"/>
            <a:ext cx="782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 rot="16200000">
            <a:off x="-322200" y="243396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439040" y="617220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955800" y="5645160"/>
            <a:ext cx="4360680" cy="190440"/>
          </a:xfrm>
          <a:prstGeom prst="pie">
            <a:avLst/>
          </a:prstGeom>
          <a:noFill/>
          <a:ln w="763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5326200" y="5105520"/>
            <a:ext cx="1074600" cy="533160"/>
          </a:xfrm>
          <a:prstGeom prst="pie">
            <a:avLst/>
          </a:pr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6400800" y="861840"/>
            <a:ext cx="1828800" cy="4200840"/>
          </a:xfrm>
          <a:prstGeom prst="pie">
            <a:avLst/>
          </a:pr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129480" y="220680"/>
            <a:ext cx="286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Our L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1"/>
          <p:cNvGrpSpPr/>
          <p:nvPr/>
        </p:nvGrpSpPr>
        <p:grpSpPr>
          <a:xfrm>
            <a:off x="3276720" y="4662360"/>
            <a:ext cx="2971800" cy="520560"/>
            <a:chOff x="3276720" y="4662360"/>
            <a:chExt cx="2971800" cy="520560"/>
          </a:xfrm>
        </p:grpSpPr>
        <p:sp>
          <p:nvSpPr>
            <p:cNvPr id="137" name="Text Box 12"/>
            <p:cNvSpPr/>
            <p:nvPr/>
          </p:nvSpPr>
          <p:spPr>
            <a:xfrm>
              <a:off x="3276720" y="466236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 Black"/>
                </a:rPr>
                <a:t>We are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>
              <a:off x="6019920" y="4952880"/>
              <a:ext cx="228600" cy="0"/>
            </a:xfrm>
            <a:prstGeom prst="line">
              <a:avLst/>
            </a:prstGeom>
            <a:ln w="1522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5"/>
          <p:cNvGrpSpPr/>
          <p:nvPr/>
        </p:nvGrpSpPr>
        <p:grpSpPr>
          <a:xfrm>
            <a:off x="4346280" y="1066680"/>
            <a:ext cx="1948680" cy="4876920"/>
            <a:chOff x="4346280" y="1066680"/>
            <a:chExt cx="1948680" cy="4876920"/>
          </a:xfrm>
        </p:grpSpPr>
        <p:sp>
          <p:nvSpPr>
            <p:cNvPr id="141" name="Line 16"/>
            <p:cNvSpPr/>
            <p:nvPr/>
          </p:nvSpPr>
          <p:spPr>
            <a:xfrm>
              <a:off x="5334120" y="1066680"/>
              <a:ext cx="0" cy="4876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4346280" y="2049480"/>
              <a:ext cx="194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Discontinuit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Digital Technol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356840" y="382680"/>
            <a:ext cx="647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cc"/>
                </a:solidFill>
                <a:latin typeface="Arial Black"/>
              </a:rPr>
              <a:t>These 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Jokerman"/>
              </a:rPr>
              <a:t>NEW TOOLS </a:t>
            </a:r>
            <a:r>
              <a:rPr b="0" i="1" lang="en-US" sz="4400" spc="-1" strike="noStrike">
                <a:solidFill>
                  <a:srgbClr val="ffff00"/>
                </a:solidFill>
                <a:latin typeface="Arial Black"/>
              </a:rPr>
              <a:t>COME FA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838080" y="2125800"/>
            <a:ext cx="8077320" cy="4794480"/>
            <a:chOff x="838080" y="2125800"/>
            <a:chExt cx="8077320" cy="4794480"/>
          </a:xfrm>
        </p:grpSpPr>
        <p:sp>
          <p:nvSpPr>
            <p:cNvPr id="146" name="Text Box 7"/>
            <p:cNvSpPr/>
            <p:nvPr/>
          </p:nvSpPr>
          <p:spPr>
            <a:xfrm>
              <a:off x="838080" y="2125800"/>
              <a:ext cx="403884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ped-up vide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icture Sear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IM/tex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Blo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Wik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Wikiped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odca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hone poll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My Spa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Handhel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4572000" y="2133720"/>
              <a:ext cx="434340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2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Complex Ga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Web 2.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Web 3.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Augmented Real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hone camer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hone vide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G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You Tu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MoSo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76212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Yahoo search            Google search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mail                          IM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Pod                          vPo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V                        You Tub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ard drives                Flash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4343400" y="2057400"/>
            <a:ext cx="914400" cy="0"/>
          </a:xfrm>
          <a:prstGeom prst="line">
            <a:avLst/>
          </a:prstGeom>
          <a:ln w="190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4343400" y="3048120"/>
            <a:ext cx="914400" cy="0"/>
          </a:xfrm>
          <a:prstGeom prst="line">
            <a:avLst/>
          </a:prstGeom>
          <a:ln w="190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4343400" y="4038480"/>
            <a:ext cx="914400" cy="0"/>
          </a:xfrm>
          <a:prstGeom prst="line">
            <a:avLst/>
          </a:prstGeom>
          <a:ln w="190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4343400" y="5029200"/>
            <a:ext cx="914400" cy="0"/>
          </a:xfrm>
          <a:prstGeom prst="line">
            <a:avLst/>
          </a:prstGeom>
          <a:ln w="190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cc"/>
                </a:solidFill>
                <a:latin typeface="Arial Black"/>
              </a:rPr>
              <a:t>…</a:t>
            </a:r>
            <a:r>
              <a:rPr b="0" i="1" lang="en-US" sz="3600" spc="-1" strike="noStrike">
                <a:solidFill>
                  <a:srgbClr val="ff33cc"/>
                </a:solidFill>
                <a:latin typeface="Arial Black"/>
              </a:rPr>
              <a:t>and tool switching is already</a:t>
            </a:r>
            <a:br>
              <a:rPr sz="3600"/>
            </a:br>
            <a:r>
              <a:rPr b="0" i="1" lang="en-US" sz="3600" spc="-1" strike="noStrike">
                <a:solidFill>
                  <a:srgbClr val="ff33cc"/>
                </a:solidFill>
                <a:latin typeface="Arial Black"/>
              </a:rPr>
              <a:t> close to instantan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4343400" y="6019920"/>
            <a:ext cx="914400" cy="0"/>
          </a:xfrm>
          <a:prstGeom prst="line">
            <a:avLst/>
          </a:prstGeom>
          <a:ln w="190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7102440" y="7726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2990880" y="144792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H="1">
            <a:off x="2990880" y="5943600"/>
            <a:ext cx="4400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 rot="16200000">
            <a:off x="1734840" y="243396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120000" y="609588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192480" y="5410080"/>
            <a:ext cx="1074600" cy="533520"/>
          </a:xfrm>
          <a:prstGeom prst="pie">
            <a:avLst/>
          </a:pr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4267080" y="1166760"/>
            <a:ext cx="1828800" cy="4200480"/>
          </a:xfrm>
          <a:prstGeom prst="pie">
            <a:avLst/>
          </a:pr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1726560" y="220680"/>
            <a:ext cx="567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 Black"/>
              </a:rPr>
              <a:t>Our</a:t>
            </a: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 Students’ </a:t>
            </a:r>
            <a:r>
              <a:rPr b="0" lang="en-US" sz="4800" spc="-1" strike="noStrike">
                <a:solidFill>
                  <a:srgbClr val="ff33cc"/>
                </a:solidFill>
                <a:latin typeface="Arial Black"/>
              </a:rPr>
              <a:t>L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996840" y="692280"/>
            <a:ext cx="7378920" cy="4878360"/>
          </a:xfrm>
          <a:prstGeom prst="wedgeRoundRectCallout">
            <a:avLst>
              <a:gd name="adj1" fmla="val -41680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143000" y="1417680"/>
            <a:ext cx="679752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Black"/>
              </a:rPr>
              <a:t>[our kids were] </a:t>
            </a: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“born to the idea of rapid change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-- Nicola Griffith in </a:t>
            </a:r>
            <a:r>
              <a:rPr b="0" i="1" lang="en-US" sz="2000" spc="-1" strike="noStrike">
                <a:solidFill>
                  <a:srgbClr val="7f7f7f"/>
                </a:solidFill>
                <a:latin typeface="Arial Black"/>
              </a:rPr>
              <a:t>Slow River  </a:t>
            </a: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(1995)</a:t>
            </a:r>
            <a:r>
              <a:rPr b="0" lang="en-US" sz="4400" spc="-1" strike="noStrike">
                <a:solidFill>
                  <a:srgbClr val="7f7f7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04920" y="685800"/>
            <a:ext cx="7238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 Black"/>
              </a:rPr>
              <a:t>The change that is </a:t>
            </a:r>
            <a:br>
              <a:rPr sz="5400"/>
            </a:br>
            <a:r>
              <a:rPr b="0" i="1" lang="en-US" sz="5400" spc="-1" strike="noStrike">
                <a:solidFill>
                  <a:srgbClr val="ffff00"/>
                </a:solidFill>
                <a:latin typeface="Arial Black"/>
              </a:rPr>
              <a:t>THREATENING</a:t>
            </a:r>
            <a:br>
              <a:rPr sz="5400"/>
            </a:br>
            <a:r>
              <a:rPr b="0" i="1" lang="en-US" sz="4400" spc="-1" strike="noStrike">
                <a:solidFill>
                  <a:srgbClr val="ffff00"/>
                </a:solidFill>
                <a:latin typeface="Arial Black"/>
              </a:rPr>
              <a:t>to the Immigr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04920" y="685800"/>
            <a:ext cx="7238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eece1"/>
                </a:solidFill>
                <a:latin typeface="Arial Black"/>
              </a:rPr>
              <a:t>The change that is </a:t>
            </a:r>
            <a:br>
              <a:rPr sz="5400"/>
            </a:br>
            <a:r>
              <a:rPr b="0" i="1" lang="en-US" sz="5400" spc="-1" strike="noStrike">
                <a:solidFill>
                  <a:srgbClr val="eeece1"/>
                </a:solidFill>
                <a:latin typeface="Arial Black"/>
              </a:rPr>
              <a:t>THREATENING</a:t>
            </a:r>
            <a:br>
              <a:rPr sz="5400"/>
            </a:br>
            <a:r>
              <a:rPr b="0" i="1" lang="en-US" sz="4400" spc="-1" strike="noStrike">
                <a:solidFill>
                  <a:srgbClr val="eeece1"/>
                </a:solidFill>
                <a:latin typeface="Arial Black"/>
              </a:rPr>
              <a:t>to the Immigr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590920" y="3733920"/>
            <a:ext cx="6476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33cc"/>
                </a:solidFill>
                <a:latin typeface="Arial Black"/>
              </a:rPr>
              <a:t>…</a:t>
            </a:r>
            <a:r>
              <a:rPr b="0" i="1" lang="en-US" sz="5400" spc="-1" strike="noStrike">
                <a:solidFill>
                  <a:srgbClr val="ff33cc"/>
                </a:solidFill>
                <a:latin typeface="Arial Black"/>
              </a:rPr>
              <a:t>is</a:t>
            </a:r>
            <a:br>
              <a:rPr sz="5400"/>
            </a:br>
            <a:r>
              <a:rPr b="0" i="1" lang="en-US" sz="5400" spc="-1" strike="noStrike">
                <a:solidFill>
                  <a:srgbClr val="ffff00"/>
                </a:solidFill>
                <a:latin typeface="Arial Black"/>
              </a:rPr>
              <a:t>EMPOWERING</a:t>
            </a:r>
            <a:br>
              <a:rPr sz="5400"/>
            </a:br>
            <a:r>
              <a:rPr b="0" i="1" lang="en-US" sz="4400" spc="-1" strike="noStrike">
                <a:solidFill>
                  <a:srgbClr val="ff33cc"/>
                </a:solidFill>
                <a:latin typeface="Arial Black"/>
              </a:rPr>
              <a:t>to the nativ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 Black"/>
              </a:rPr>
              <a:t>It means we are going</a:t>
            </a:r>
            <a:br>
              <a:rPr sz="4000"/>
            </a:b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FAR TOO SLOW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CONCEPTUAL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cc"/>
                </a:solidFill>
                <a:latin typeface="Arial Black"/>
              </a:rPr>
              <a:t>TOO S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066680" y="304920"/>
            <a:ext cx="72392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25472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gamestotrain5"/>
          <p:cNvPicPr/>
          <p:nvPr/>
        </p:nvPicPr>
        <p:blipFill>
          <a:blip r:embed="rId1"/>
          <a:stretch/>
        </p:blipFill>
        <p:spPr>
          <a:xfrm>
            <a:off x="3657600" y="304920"/>
            <a:ext cx="3276720" cy="782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6095880" y="3049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805400" y="426960"/>
            <a:ext cx="572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Arial Black"/>
              </a:rPr>
              <a:t>Education                     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676520" y="2362320"/>
            <a:ext cx="746748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FL, L.A. Virtual Schools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hemistry Game 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(MeCH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Physics Game 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(Waste of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Periodic Table Cell Phone Game 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(EleM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Financial Literacy Game </a:t>
            </a:r>
            <a:r>
              <a:rPr b="0" lang="en-US" sz="1800" spc="-1" strike="noStrike">
                <a:solidFill>
                  <a:srgbClr val="ff33cc"/>
                </a:solidFill>
                <a:latin typeface="Arial Black"/>
              </a:rPr>
              <a:t>(Money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GAMES A LA CARTE – Make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gebra I Game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The Algebots, in develop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ading Teacher Game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to co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76520" y="176220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ducation Software/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O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DEVELOPMENT</a:t>
            </a: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cc"/>
                </a:solidFill>
                <a:latin typeface="Arial Black"/>
              </a:rPr>
              <a:t>TOO S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TERATI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 Black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cc"/>
                </a:solidFill>
                <a:latin typeface="Arial Black"/>
              </a:rPr>
              <a:t>TOO S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2867760" y="2665440"/>
            <a:ext cx="32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Year = qu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Month =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Week =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57200" y="7621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 Black"/>
              </a:rPr>
              <a:t>“</a:t>
            </a:r>
            <a:r>
              <a:rPr b="0" lang="en-US" sz="6000" spc="-1" strike="noStrike">
                <a:solidFill>
                  <a:srgbClr val="ff33cc"/>
                </a:solidFill>
                <a:latin typeface="Arial Black"/>
              </a:rPr>
              <a:t>Internet tim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457200" y="22096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We can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(much) be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an tha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3917160" y="274320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 Black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2108160" y="2438280"/>
            <a:ext cx="50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Our brains go f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in unconscious m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1495080" y="2782800"/>
            <a:ext cx="61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Our tools are getting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3310560" y="1469880"/>
            <a:ext cx="24987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SP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Arial Black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STR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Arial Black"/>
              </a:rPr>
              <a:t>?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020760" y="1371600"/>
            <a:ext cx="301536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SPE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00"/>
                </a:solidFill>
                <a:latin typeface="Arial Black"/>
              </a:rPr>
              <a:t>≠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cc"/>
                </a:solidFill>
                <a:latin typeface="Arial Black"/>
              </a:rPr>
              <a:t>STRE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3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4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5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6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7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8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9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0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789480" y="914400"/>
            <a:ext cx="767736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SPE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00"/>
                </a:solidFill>
                <a:latin typeface="Arial Black"/>
              </a:rPr>
              <a:t>=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Black"/>
              </a:rPr>
              <a:t>Excite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Black"/>
              </a:rPr>
              <a:t>Getting more d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423240" y="1522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My Latest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14600" y="762120"/>
            <a:ext cx="4038480" cy="6019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bookcover_version3_coveronly copy"/>
          <p:cNvPicPr/>
          <p:nvPr/>
        </p:nvPicPr>
        <p:blipFill>
          <a:blip r:embed="rId1"/>
          <a:stretch/>
        </p:blipFill>
        <p:spPr>
          <a:xfrm>
            <a:off x="2514600" y="723960"/>
            <a:ext cx="4038480" cy="6057720"/>
          </a:xfrm>
          <a:prstGeom prst="rect">
            <a:avLst/>
          </a:prstGeom>
          <a:ln w="0">
            <a:noFill/>
          </a:ln>
        </p:spPr>
      </p:pic>
      <p:sp>
        <p:nvSpPr>
          <p:cNvPr id="68" name="Oval 5"/>
          <p:cNvSpPr/>
          <p:nvPr/>
        </p:nvSpPr>
        <p:spPr>
          <a:xfrm>
            <a:off x="2133720" y="685800"/>
            <a:ext cx="4952880" cy="99072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www.SocialImpactGame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www.GamesParentsTeachers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holds an MBA from Harvard and a Masters in Teaching from Yale.  More of his writings can be foun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www.marcprensky.com/writing/default.asp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.  Marc can be contacted at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marc@games2train.co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www.SocialImpactGames.com, and www.GamesParentsTeachers.com .  Marc holds an MBA from Harvard and a Masters in Teaching from Yale.  More of his writings can be found at www.marcprensky.com/writing/default.asp .  Marc can be contacted at marc@games2train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www.SocialImpactGames.com, and www.GamesParentsTeachers.com .  Marc holds an MBA from Harvard and a Masters in Teaching from Yale.  More of his writings can be found at www.marcprensky.com/writing/default.asp .  Marc can be contacted at marc@games2train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-13406400" y="29160"/>
            <a:ext cx="3595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 Prensky is an internationally acclaimed thought leader, speaker, writer, consultant, and game designer in the critical areas of education and learning.  He is the author of Digital Game-Based Learning (McGraw Hill, 2001) and Don’t Bother Me, Mom, I’m Learning (Paragon House, 2006).  Marc is the founder and CEO of Games2train, a game-based learning company, whose clients include IBM, Bank of America, Pfizer , the U.S. Department of Defense and the LA and Florida Virtual Schools.  He is also the  creator of the sites www.SocialImpactGames.com, and www.GamesParentsTeachers.com .  Marc holds an MBA from Harvard and a Masters in Teaching from Yale.  More of his writings can be found at www.marcprensky.com/writing/default.asp .  Marc can be contacted at marc@games2train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slowness.jpg"/>
          <p:cNvPicPr/>
          <p:nvPr/>
        </p:nvPicPr>
        <p:blipFill>
          <a:blip r:embed="rId9"/>
          <a:stretch/>
        </p:blipFill>
        <p:spPr>
          <a:xfrm>
            <a:off x="1752480" y="304920"/>
            <a:ext cx="5791320" cy="57909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2743200" y="914400"/>
            <a:ext cx="3352680" cy="5029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914400" y="76320"/>
            <a:ext cx="7467480" cy="7617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1066680" y="6019920"/>
            <a:ext cx="7467840" cy="7617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457200" y="304920"/>
            <a:ext cx="2209680" cy="6553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6172200" y="228600"/>
            <a:ext cx="2209680" cy="6629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7"/>
          <p:cNvGrpSpPr/>
          <p:nvPr/>
        </p:nvGrpSpPr>
        <p:grpSpPr>
          <a:xfrm>
            <a:off x="0" y="-720"/>
            <a:ext cx="9143640" cy="6630120"/>
            <a:chOff x="0" y="-720"/>
            <a:chExt cx="9143640" cy="6630120"/>
          </a:xfrm>
        </p:grpSpPr>
        <p:sp>
          <p:nvSpPr>
            <p:cNvPr id="241" name="Straight Connector 14"/>
            <p:cNvSpPr/>
            <p:nvPr/>
          </p:nvSpPr>
          <p:spPr>
            <a:xfrm>
              <a:off x="0" y="0"/>
              <a:ext cx="8915400" cy="6629400"/>
            </a:xfrm>
            <a:prstGeom prst="line">
              <a:avLst/>
            </a:prstGeom>
            <a:ln w="30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traight Connector 15"/>
            <p:cNvSpPr/>
            <p:nvPr/>
          </p:nvSpPr>
          <p:spPr>
            <a:xfrm flipH="1">
              <a:off x="228240" y="-720"/>
              <a:ext cx="8915400" cy="6629400"/>
            </a:xfrm>
            <a:prstGeom prst="line">
              <a:avLst/>
            </a:prstGeom>
            <a:ln w="30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16"/>
          <p:cNvSpPr/>
          <p:nvPr/>
        </p:nvSpPr>
        <p:spPr>
          <a:xfrm>
            <a:off x="5257800" y="1066680"/>
            <a:ext cx="762120" cy="609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ro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366200" y="76320"/>
            <a:ext cx="6549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re You Having A Good Summ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vacation1.jpg"/>
          <p:cNvPicPr/>
          <p:nvPr/>
        </p:nvPicPr>
        <p:blipFill>
          <a:blip r:embed="rId1"/>
          <a:stretch/>
        </p:blipFill>
        <p:spPr>
          <a:xfrm>
            <a:off x="-7537320" y="-228600"/>
            <a:ext cx="16681320" cy="76201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"/>
          <p:cNvSpPr/>
          <p:nvPr/>
        </p:nvSpPr>
        <p:spPr>
          <a:xfrm>
            <a:off x="2788200" y="228600"/>
            <a:ext cx="3597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ld vacation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+vacaciones.jpg"/>
          <p:cNvPicPr/>
          <p:nvPr/>
        </p:nvPicPr>
        <p:blipFill>
          <a:blip r:embed="rId1"/>
          <a:stretch/>
        </p:blipFill>
        <p:spPr>
          <a:xfrm>
            <a:off x="1676520" y="-12600"/>
            <a:ext cx="5779800" cy="68706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"/>
          <p:cNvSpPr/>
          <p:nvPr/>
        </p:nvSpPr>
        <p:spPr>
          <a:xfrm>
            <a:off x="2856240" y="177840"/>
            <a:ext cx="37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w Vacatio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headache02"/>
          <p:cNvPicPr/>
          <p:nvPr/>
        </p:nvPicPr>
        <p:blipFill>
          <a:blip r:embed="rId1"/>
          <a:stretch/>
        </p:blipFill>
        <p:spPr>
          <a:xfrm>
            <a:off x="304920" y="1312920"/>
            <a:ext cx="3601800" cy="554508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4"/>
          <p:cNvSpPr/>
          <p:nvPr/>
        </p:nvSpPr>
        <p:spPr>
          <a:xfrm>
            <a:off x="4191120" y="380880"/>
            <a:ext cx="4724280" cy="4114800"/>
          </a:xfrm>
          <a:prstGeom prst="wedgeRoundRectCallout">
            <a:avLst>
              <a:gd name="adj1" fmla="val -68379"/>
              <a:gd name="adj2" fmla="val 32023"/>
              <a:gd name="adj3" fmla="val 1666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Black"/>
              </a:rPr>
              <a:t>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Black"/>
              </a:rPr>
              <a:t>will all this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END!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00"/>
                </a:solidFill>
                <a:latin typeface="Arial Black"/>
              </a:rPr>
              <a:t>IT WON’T 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631080" y="1981080"/>
            <a:ext cx="7887960" cy="228744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Black"/>
              </a:rPr>
              <a:t>We have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i="1" lang="en-US" sz="4800" spc="-1" strike="noStrike">
                <a:solidFill>
                  <a:srgbClr val="ffff00"/>
                </a:solidFill>
                <a:latin typeface="Arial Black"/>
              </a:rPr>
              <a:t>GET USED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 Black"/>
              </a:rPr>
              <a:t>the Idea of Rapid Chang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The world 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kids inha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is already hug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different from our 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1066680" y="609480"/>
            <a:ext cx="7010640" cy="4648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0066ff"/>
                </a:solidFill>
                <a:latin typeface="Arial Black"/>
              </a:rPr>
              <a:t>You look at technology as a tool. </a:t>
            </a:r>
            <a:r>
              <a:rPr b="0" lang="en-US" sz="3600" spc="-1" strike="noStrike">
                <a:solidFill>
                  <a:srgbClr val="ff33cc"/>
                </a:solidFill>
                <a:latin typeface="Arial Black"/>
              </a:rPr>
              <a:t>We look at technology as a foundation</a:t>
            </a:r>
            <a:r>
              <a:rPr b="0" lang="en-US" sz="3600" spc="-1" strike="noStrike">
                <a:solidFill>
                  <a:srgbClr val="0066ff"/>
                </a:solidFill>
                <a:latin typeface="Arial Black"/>
              </a:rPr>
              <a:t> – it’s totally integrated into what we d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                                          – </a:t>
            </a:r>
            <a:r>
              <a:rPr b="0" lang="en-US" sz="2000" spc="-1" strike="noStrike">
                <a:solidFill>
                  <a:srgbClr val="7f7f7f"/>
                </a:solidFill>
                <a:latin typeface="Arial Black"/>
              </a:rPr>
              <a:t>a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cc"/>
                </a:solidFill>
                <a:latin typeface="Arial Black"/>
              </a:rPr>
              <a:t>It’s tim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 Black"/>
              </a:rPr>
              <a:t>TURN AROUND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scream4.jpg"/>
          <p:cNvPicPr/>
          <p:nvPr/>
        </p:nvPicPr>
        <p:blipFill>
          <a:blip r:embed="rId1"/>
          <a:stretch/>
        </p:blipFill>
        <p:spPr>
          <a:xfrm>
            <a:off x="2305080" y="0"/>
            <a:ext cx="453384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45720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FA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the fu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1905120" y="533520"/>
            <a:ext cx="457200" cy="6324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85800" y="2438280"/>
            <a:ext cx="7772400" cy="180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ow Computer and Video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re Preparing Your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 Twenty-first Century Su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d How You Can Hel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228600" y="1676520"/>
            <a:ext cx="8763120" cy="3047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2"/>
          <p:cNvSpPr/>
          <p:nvPr/>
        </p:nvSpPr>
        <p:spPr>
          <a:xfrm>
            <a:off x="914400" y="692280"/>
            <a:ext cx="7378560" cy="4878360"/>
          </a:xfrm>
          <a:prstGeom prst="wedgeRoundRectCallout">
            <a:avLst>
              <a:gd name="adj1" fmla="val -41680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143000" y="1523880"/>
            <a:ext cx="69343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 Black"/>
              </a:rPr>
              <a:t>“</a:t>
            </a:r>
            <a:r>
              <a:rPr b="0" lang="en-US" sz="6000" spc="-1" strike="noStrike">
                <a:solidFill>
                  <a:srgbClr val="ff33cc"/>
                </a:solidFill>
                <a:latin typeface="Arial Black"/>
              </a:rPr>
              <a:t>Feel the fear 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Black"/>
              </a:rPr>
              <a:t>and do it anyway!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 Black"/>
              </a:rPr>
              <a:t>-- Elizabeth Moon in </a:t>
            </a:r>
            <a:r>
              <a:rPr b="0" i="1" lang="en-US" sz="1600" spc="-1" strike="noStrike">
                <a:solidFill>
                  <a:srgbClr val="7f7f7f"/>
                </a:solidFill>
                <a:latin typeface="Arial Black"/>
              </a:rPr>
              <a:t>The Speed of Dark </a:t>
            </a:r>
            <a:r>
              <a:rPr b="0" lang="en-US" sz="1600" spc="-1" strike="noStrike">
                <a:solidFill>
                  <a:srgbClr val="7f7f7f"/>
                </a:solidFill>
                <a:latin typeface="Arial Black"/>
              </a:rPr>
              <a:t>(2003)</a:t>
            </a:r>
            <a:r>
              <a:rPr b="0" lang="en-US" sz="3600" spc="-1" strike="noStrike">
                <a:solidFill>
                  <a:srgbClr val="7f7f7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at’s chang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nd how f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COMMUN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Away from read/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uge pent up demand for You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Technology ena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With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 Black"/>
              </a:rPr>
              <a:t>To a world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572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Kids learning on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Technology 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Interaction with experts and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4572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Participati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Technology 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cr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572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PROGRAMM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Specialized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PT, GameMaker, Crickets, Scr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Black"/>
              </a:rPr>
              <a:t>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76680" y="2514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Five Stages</a:t>
            </a:r>
            <a:br>
              <a:rPr sz="3600"/>
            </a:br>
            <a:r>
              <a:rPr b="0" lang="en-US" sz="3600" spc="-1" strike="noStrike">
                <a:solidFill>
                  <a:srgbClr val="ff33cc"/>
                </a:solidFill>
                <a:latin typeface="Arial Black"/>
              </a:rPr>
              <a:t>o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People</a:t>
            </a:r>
            <a:br>
              <a:rPr sz="3600"/>
            </a:br>
            <a:r>
              <a:rPr b="0" lang="en-US" sz="3600" spc="-1" strike="noStrike">
                <a:solidFill>
                  <a:srgbClr val="ff33cc"/>
                </a:solidFill>
                <a:latin typeface="Arial Black"/>
              </a:rPr>
              <a:t>and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alligator.bmp"/>
          <p:cNvPicPr/>
          <p:nvPr/>
        </p:nvPicPr>
        <p:blipFill>
          <a:blip r:embed="rId1"/>
          <a:stretch/>
        </p:blipFill>
        <p:spPr>
          <a:xfrm>
            <a:off x="0" y="-1440"/>
            <a:ext cx="9296280" cy="69768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5"/>
          <p:cNvSpPr/>
          <p:nvPr/>
        </p:nvSpPr>
        <p:spPr>
          <a:xfrm>
            <a:off x="0" y="0"/>
            <a:ext cx="9296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45776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3509640" y="0"/>
            <a:ext cx="21024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. Hi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28.jpg"/>
          <p:cNvPicPr/>
          <p:nvPr/>
        </p:nvPicPr>
        <p:blipFill>
          <a:blip r:embed="rId1"/>
          <a:stretch/>
        </p:blipFill>
        <p:spPr>
          <a:xfrm>
            <a:off x="0" y="33480"/>
            <a:ext cx="9190080" cy="68245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0"/>
            <a:ext cx="9296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3536640" y="0"/>
            <a:ext cx="18356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.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squid_table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296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3013560" y="0"/>
            <a:ext cx="31341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. Accep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BCG_logo.gif"/>
          <p:cNvPicPr/>
          <p:nvPr/>
        </p:nvPicPr>
        <p:blipFill>
          <a:blip r:embed="rId1"/>
          <a:stretch/>
        </p:blipFill>
        <p:spPr>
          <a:xfrm>
            <a:off x="304920" y="2685960"/>
            <a:ext cx="853416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" descr="thaisnake.bmp"/>
          <p:cNvPicPr/>
          <p:nvPr/>
        </p:nvPicPr>
        <p:blipFill>
          <a:blip r:embed="rId1"/>
          <a:stretch/>
        </p:blipFill>
        <p:spPr>
          <a:xfrm>
            <a:off x="-20520" y="0"/>
            <a:ext cx="918504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3311640" y="0"/>
            <a:ext cx="24667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. Com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+zebra-on-motorcycle-comedy-desktops.jpg"/>
          <p:cNvPicPr/>
          <p:nvPr/>
        </p:nvPicPr>
        <p:blipFill>
          <a:blip r:embed="rId1"/>
          <a:stretch/>
        </p:blipFill>
        <p:spPr>
          <a:xfrm>
            <a:off x="-304920" y="6858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"/>
          <p:cNvSpPr/>
          <p:nvPr/>
        </p:nvSpPr>
        <p:spPr>
          <a:xfrm>
            <a:off x="3513240" y="0"/>
            <a:ext cx="20444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.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BARRI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 Black"/>
              </a:rPr>
              <a:t>Shar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(not enoug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 Black"/>
              </a:rPr>
              <a:t>Struc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(not enough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 Black"/>
              </a:rPr>
              <a:t>Proprieta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(too much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3600" y="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“</a:t>
            </a: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Intellectu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Proper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Emin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 Black"/>
              </a:rPr>
              <a:t>Domain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RIS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7914240" y="3049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 Black"/>
              </a:rPr>
              <a:t>Mr. 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bean-dentist.wmv" descr=""/>
          <p:cNvPicPr/>
          <p:nvPr/>
        </p:nvPicPr>
        <p:blipFill>
          <a:blip r:embed="rId1"/>
          <a:stretch/>
        </p:blipFill>
        <p:spPr>
          <a:xfrm>
            <a:off x="914400" y="719280"/>
            <a:ext cx="73152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4048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 rot="20136600">
            <a:off x="1947240" y="2544120"/>
            <a:ext cx="52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cc"/>
                </a:solidFill>
                <a:latin typeface="Harlow Solid Italic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68960" y="2057400"/>
            <a:ext cx="4044240" cy="22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ho says 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kids can’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o mat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Rectangle 3"/>
          <p:cNvGrpSpPr/>
          <p:nvPr/>
        </p:nvGrpSpPr>
        <p:grpSpPr>
          <a:xfrm>
            <a:off x="158760" y="176040"/>
            <a:ext cx="8813880" cy="2043360"/>
            <a:chOff x="158760" y="176040"/>
            <a:chExt cx="8813880" cy="2043360"/>
          </a:xfrm>
        </p:grpSpPr>
        <p:pic>
          <p:nvPicPr>
            <p:cNvPr id="320" name="Rectangle 3" descr=""/>
            <p:cNvPicPr/>
            <p:nvPr/>
          </p:nvPicPr>
          <p:blipFill>
            <a:blip r:embed="rId1"/>
            <a:stretch/>
          </p:blipFill>
          <p:spPr>
            <a:xfrm>
              <a:off x="158760" y="176040"/>
              <a:ext cx="8813880" cy="20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57200" y="304920"/>
              <a:ext cx="8229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00"/>
                  </a:solidFill>
                  <a:latin typeface="Arial Black"/>
                </a:rPr>
                <a:t>Continue the Dialog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00"/>
                  </a:solidFill>
                  <a:latin typeface="Arial Black"/>
                </a:rPr>
                <a:t>marc@games2train.co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Freeform 5"/>
          <p:cNvSpPr/>
          <p:nvPr/>
        </p:nvSpPr>
        <p:spPr>
          <a:xfrm rot="263400">
            <a:off x="3528720" y="3525480"/>
            <a:ext cx="1828800" cy="1434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046240" y="2666880"/>
            <a:ext cx="5054400" cy="35074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web sit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www.marcprensk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www.socialimpactgam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www.gamesparentsteachers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Black"/>
              </a:rPr>
              <a:t>www.games2trai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indX.gif"/>
          <p:cNvPicPr/>
          <p:nvPr/>
        </p:nvPicPr>
        <p:blipFill>
          <a:blip r:embed="rId1"/>
          <a:stretch/>
        </p:blipFill>
        <p:spPr>
          <a:xfrm>
            <a:off x="685800" y="701640"/>
            <a:ext cx="7772400" cy="5454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7331040" y="658332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7300800" y="655308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Arial Black"/>
              </a:rPr>
              <a:t>© 2007 Marc Pren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 rot="20557800">
            <a:off x="1752120" y="2196720"/>
            <a:ext cx="6099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6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an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6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43880" y="10447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ealing with the speed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0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3" dur="500" autoRev="1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38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9:34:10Z</dcterms:created>
  <dc:creator>Marc</dc:creator>
  <dc:description/>
  <dc:language>en-US</dc:language>
  <cp:lastModifiedBy>Marc</cp:lastModifiedBy>
  <dcterms:modified xsi:type="dcterms:W3CDTF">2007-11-09T18:38:21Z</dcterms:modified>
  <cp:revision>28</cp:revision>
  <dc:subject/>
  <dc:title>Slide 1</dc:title>
</cp:coreProperties>
</file>